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788-398C-4D7E-B74B-4BE2CDA6DB7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F55-4C6A-4CFB-96F9-58EFEB8534E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29B1-C46F-4D03-AAC7-A04806D7209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960-6BC8-4348-B26F-D721CAA154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B26-95F3-4977-A83F-5975AD649E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617-8509-4EF2-89F3-F970187E326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14A-4013-47F2-AF94-91FCA1A8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C8F-5AD5-485C-A17C-EB3D436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02E-B15C-429A-88AB-CA4D46E5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EA3-F439-419A-A72B-485142C7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77C-E551-4CF3-BFCF-2201E73D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B0F-8779-4A4F-94E7-82158E04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98E-030D-40EB-A454-117E8059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9CC-93BA-49BD-AD6D-6F4264E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666-C3C7-4516-BB79-A5ACB74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BA5-3AC4-4C7F-8810-EAC19F6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7A9-A3BE-4655-A7AB-7103F62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8AE-8398-4CE4-83D3-37609EF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2197-C130-4B19-8F81-3AA43654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photosynthesis---light-reactions-and-photophosphorylation?playlist=Biology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hyperlink" Target="http://highered.mcgraw-hill.com/sites/0073383198/student_view0/chapter3/animation_quiz_-_photosynthetic_electron_transport_and_atp_synthesi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10-30T17:06:20Z</dcterms:modified>
  <cp:revision>107</cp:revision>
  <dc:subject/>
  <dc:title>Slide 1</dc:title>
</cp:coreProperties>
</file>